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79AC-1D1C-48DD-8150-8C67B5E2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6035-F79D-430B-87A1-49A07AF5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9994-4779-4830-AB7D-EF37E571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892D-F0F4-4D69-AB8C-985694B60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0314-DD66-4AD9-8F06-754AB825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1C92-8675-4C74-81B9-4C682F17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FA94-419F-4E50-BDB3-67FB9463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35BE-C5D3-4105-8D25-7BF53F28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712C-5158-4431-9D21-C72C0BF7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3052-EDDB-464A-A438-3C41A250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59DF-326F-4C32-998E-886D6BD9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2EDB-8FF7-485F-A9CB-A1B50825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E034-A0AF-44BC-BEA8-1E9D1D38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7F04-B1A4-4F9D-8F8F-DC5BE434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7A4F-C1DA-434F-B997-6198D70F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D83E-BD98-46C2-9E5E-F0EFA934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C62F-9EFF-4B1C-8AF4-6DE7C2B1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5025-C20B-432C-9636-B27D0132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6C14-2B98-442D-BEDC-78E9693B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C957-2807-4487-AE42-73C694BF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7C6F-5F29-4E2B-A33B-764E4A82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B1B9-578C-45BD-B5BD-8B49979A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B13B-0D63-4F0F-BA67-32EB55B2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D29F-7B1E-49D8-B5FE-97C8BA8A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a0e7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0884-523D-45F8-A132-579261F70A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a0e7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3FA0-5280-44F6-ADB7-BB2F2E48EBBC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8;&#1077;&#1089;&#1090;.xls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ctr" pos="29685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26cb6"/>
                </a:solidFill>
                <a:latin typeface="Times New Roman"/>
                <a:ea typeface="Times New Roman"/>
              </a:rPr>
              <a:t>Всероссийская научно-методическая  конференция 10 ноября 2013 - 30 января 2014</a:t>
            </a:r>
            <a:br>
              <a:rPr sz="1600"/>
            </a:br>
            <a:r>
              <a:rPr b="0" lang="ru-RU" sz="1600" spc="-1" strike="noStrike">
                <a:solidFill>
                  <a:srgbClr val="126cb6"/>
                </a:solidFill>
                <a:latin typeface="Times New Roman"/>
                <a:ea typeface="Times New Roman"/>
              </a:rPr>
              <a:t>"Педагогическая технология и мастерство учителя"</a:t>
            </a:r>
            <a:br>
              <a:rPr sz="1600"/>
            </a:b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6280" y="148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Урок математики в 4 классе школы VIII вид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Рисунок 3" descr=""/>
          <p:cNvPicPr/>
          <p:nvPr/>
        </p:nvPicPr>
        <p:blipFill>
          <a:blip r:embed="rId1"/>
          <a:stretch/>
        </p:blipFill>
        <p:spPr>
          <a:xfrm>
            <a:off x="1519200" y="6108840"/>
            <a:ext cx="6114960" cy="3175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2411280" y="3645000"/>
            <a:ext cx="64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реева Наталья Андреев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итель начальных классов, дефектоло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униципальное бюджетное 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Средняя общеобразовательная школа № 2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. Енисейск, Красноярский кра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7127640" cy="15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600" spc="-1" strike="noStrike">
                <a:solidFill>
                  <a:srgbClr val="3333cc"/>
                </a:solidFill>
                <a:latin typeface="Tahoma"/>
              </a:rPr>
              <a:t>Урок -</a:t>
            </a:r>
            <a:r>
              <a:rPr b="0" lang="ru-RU" sz="106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0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50560" y="2349360"/>
            <a:ext cx="87138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600" spc="-1" strike="noStrike">
                <a:solidFill>
                  <a:srgbClr val="ff0000"/>
                </a:solidFill>
                <a:latin typeface="Tahoma"/>
              </a:rPr>
              <a:t>путешествие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274880" y="6083280"/>
            <a:ext cx="10843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На тес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500" spc="-1" strike="noStrike">
                <a:solidFill>
                  <a:srgbClr val="000099"/>
                </a:solidFill>
                <a:latin typeface="Arial Unicode MS"/>
              </a:rPr>
              <a:t>АВТОБУС</a:t>
            </a:r>
            <a:endParaRPr b="0" lang="en-US" sz="1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4" descr="j0183328"/>
          <p:cNvPicPr/>
          <p:nvPr/>
        </p:nvPicPr>
        <p:blipFill>
          <a:blip r:embed="rId1"/>
          <a:stretch/>
        </p:blipFill>
        <p:spPr>
          <a:xfrm>
            <a:off x="1332000" y="0"/>
            <a:ext cx="6494400" cy="652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-489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1"/>
          <a:stretch/>
        </p:blipFill>
        <p:spPr>
          <a:xfrm>
            <a:off x="0" y="260280"/>
            <a:ext cx="4492800" cy="6120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4603680" y="260280"/>
            <a:ext cx="4540320" cy="60753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grpSp>
        <p:nvGrpSpPr>
          <p:cNvPr id="114" name="Group 20"/>
          <p:cNvGrpSpPr/>
          <p:nvPr/>
        </p:nvGrpSpPr>
        <p:grpSpPr>
          <a:xfrm>
            <a:off x="4572000" y="260280"/>
            <a:ext cx="4572000" cy="6129360"/>
            <a:chOff x="4572000" y="260280"/>
            <a:chExt cx="4572000" cy="6129360"/>
          </a:xfrm>
        </p:grpSpPr>
        <p:sp>
          <p:nvSpPr>
            <p:cNvPr id="115" name="Rectangle 9"/>
            <p:cNvSpPr/>
            <p:nvPr/>
          </p:nvSpPr>
          <p:spPr>
            <a:xfrm>
              <a:off x="4572000" y="6021360"/>
              <a:ext cx="4572000" cy="368280"/>
            </a:xfrm>
            <a:prstGeom prst="rect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 rot="5400000">
              <a:off x="4751280" y="80640"/>
              <a:ext cx="2089080" cy="2448000"/>
            </a:xfrm>
            <a:prstGeom prst="rtTriangl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eaeaea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3"/>
          <p:cNvSpPr/>
          <p:nvPr/>
        </p:nvSpPr>
        <p:spPr>
          <a:xfrm>
            <a:off x="1619280" y="1197000"/>
            <a:ext cx="2663640" cy="5184720"/>
          </a:xfrm>
          <a:custGeom>
            <a:avLst/>
            <a:gdLst>
              <a:gd name="textAreaLeft" fmla="*/ 129960 w 2663640"/>
              <a:gd name="textAreaRight" fmla="*/ 2533680 w 2663640"/>
              <a:gd name="textAreaTop" fmla="*/ 129960 h 5184720"/>
              <a:gd name="textAreaBottom" fmla="*/ 5054760 h 5184720"/>
            </a:gdLst>
            <a:ahLst/>
            <a:rect l="textAreaLeft" t="textAreaTop" r="textAreaRight" b="textAreaBottom"/>
            <a:pathLst>
              <a:path w="21600" h="42041">
                <a:moveTo>
                  <a:pt x="3600" y="0"/>
                </a:moveTo>
                <a:arcTo wR="3600" hR="3600" stAng="16200000" swAng="-5400000"/>
                <a:lnTo>
                  <a:pt x="0" y="38441"/>
                </a:lnTo>
                <a:arcTo wR="3600" hR="3600" stAng="10800000" swAng="-5400000"/>
                <a:lnTo>
                  <a:pt x="18000" y="420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Oval 5"/>
          <p:cNvSpPr/>
          <p:nvPr/>
        </p:nvSpPr>
        <p:spPr>
          <a:xfrm>
            <a:off x="2195640" y="1557360"/>
            <a:ext cx="1296720" cy="1224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Oval 7"/>
          <p:cNvSpPr/>
          <p:nvPr/>
        </p:nvSpPr>
        <p:spPr>
          <a:xfrm>
            <a:off x="2195640" y="4797360"/>
            <a:ext cx="1296720" cy="12970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2195640" y="3213000"/>
            <a:ext cx="1295280" cy="122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572000" y="1700280"/>
            <a:ext cx="43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Стой на месте, руки на поя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4464000" y="351324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Хлопай в ладош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4572000" y="5229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Топай нога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12900" spc="-1" strike="noStrike">
                <a:solidFill>
                  <a:srgbClr val="ff0000"/>
                </a:solidFill>
                <a:latin typeface="Tahoma"/>
              </a:rPr>
              <a:t>МОЛОДЕЦ</a:t>
            </a:r>
            <a:endParaRPr b="0" lang="en-US" sz="1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3T01:15:50Z</dcterms:created>
  <dc:creator>Администратор</dc:creator>
  <dc:description/>
  <dc:language>en-US</dc:language>
  <cp:lastModifiedBy>Венера Узбековна</cp:lastModifiedBy>
  <dcterms:modified xsi:type="dcterms:W3CDTF">2014-02-14T14:29:13Z</dcterms:modified>
  <cp:revision>10</cp:revision>
  <dc:subject/>
  <dc:title>Слайд 1</dc:title>
</cp:coreProperties>
</file>